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631-E42F-4453-9B29-65E4B594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82F-C14F-4206-AF99-B8EC8855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BBB-877F-4870-B815-8E5A39B1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470-37AA-43D2-A384-CC474EC8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FD0F-3134-4277-9241-B5E97D31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ACC6-726B-4CC7-A7F5-DECF0003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EBE0-4E3D-4506-9021-19E66610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6CC8-037F-4567-98BE-BEA9B828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5C29-B450-4F1A-81F1-D5EDD2D5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EA98-9245-4319-9295-7256E23D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CB05-5438-4D72-A895-8EB3C400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948-2B64-4E56-9036-7322BF5B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325C-AFCE-402C-A3BA-66B8FDC1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C3A5-6AA9-44E8-BDB3-B9F68A71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923F-A5B6-4EF3-A364-A312B14F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14F9-1007-4B0E-A7AC-386BC56F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5D0A-C548-4DE0-A23B-61B993C3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DDEE-86DA-4EA6-8834-6F448212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DA1E1-6040-40E4-8ACF-CF9D121A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5531-DA99-4FC5-8CA5-31361C04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46474-1E18-4FF8-A9B0-617F8D82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F1037-DE01-4E62-9390-7713D17C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9BA-E8B1-4C31-BABE-FA1DF987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28E9A-5E25-4E0C-97DC-C38C0E33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14DC9-88E7-46D3-B378-2C36A15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B626-D71A-4925-BB76-8035D7B6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80340-1EC8-4E37-8A7F-9ADE8976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68250-F287-4334-B17B-A49FE3F3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E1F7-C287-45BA-B8B2-275F34F5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0B71B-894D-44A4-9B3C-59C8DF3E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DCC48-856C-4A99-84F0-5B632975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39EBB-2804-482F-82A3-8C7AF983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19DDC-225E-4D6A-8FDB-14E94968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5E4-5DE4-4788-A8AA-302F86FF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A707-D0D6-4279-8CF5-82DB571E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A166C-79D8-43D4-A7D4-EC36C955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CDA00-C0CE-4468-AC58-CFFF103B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42D0B-1C3D-44EA-815E-A22238FD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29116-20FE-4D33-88B5-8196695F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354C3-4F64-4272-BA4B-AA9B7587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5ED1E-72E3-42A9-884F-2C267EF7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67EC2-2F73-4355-B722-82ABBCC3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9EC8-B262-464E-B045-5619FC47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1DA73-8B05-4FD7-A121-AEBBA50E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E9E-D16A-49AA-B770-B96A6E8B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70DB7-B978-4534-B2C6-4BFC339F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CCBF0-9E5E-422A-98B5-5BA39003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C5DB4-AEC6-4FDF-9F7D-8232891D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C960B-3E60-49F5-8018-2C64A59C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C3E35-3130-4850-928A-9D6E50BC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BD01E-595D-4647-B37C-D88302E2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A0FD4-E6C7-42AA-912C-F16AA7A3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B0B55-1849-4DE9-8276-360943F7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11A52-6B3C-4298-8ACF-1B701BA0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C3DB2-9645-4D97-BA17-E2F8B3B1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4A2-E3B3-408F-91D7-CB4A068D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02BE1-E7B5-4F0E-8A0C-22A506D4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69FA6-0B46-4C11-B553-B44F946E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D8F4C-F91C-4F49-9ACB-198BB8CA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3FDBE-8FF0-4956-A951-162CBCF1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244A0-12C1-4FB1-8D1D-63825398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3E93E-2A72-4788-907B-055252F2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644BF-E5C1-4EF2-BEAA-73A65306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6FE2C-F347-49C5-A988-E2F0C814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9FB9B-0C8D-4B16-942B-A7B71A53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D766C-B347-474C-9475-E01D8C4A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E84-880A-49BC-931A-E05A707A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EA572-C653-4233-B431-4A217334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C8962-434E-43D3-A44F-92663522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B3FB8-5944-4B4B-85B0-16A5393A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14364-1E14-4B5B-A419-92D937BB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19624-B9F7-4157-95AB-9E812613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9CA50-6E53-4C86-B50F-2EAF4D86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C03F-5B81-4F46-9F78-4B767C1B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85422-18AA-4B1C-8780-5AC7B209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DF3D0-FA6A-4FD0-BAC3-841557D5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DA626-4C77-401D-AC4C-C17F6697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547-C71A-404B-9A10-132031E8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89615-9373-4726-99D9-FFD2B2D7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60972-8FD5-498D-89F1-F5CAD689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8AB85-5278-4B47-ACF5-3DABC2C1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28F0F-1405-4EB1-810B-35E7F543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73588-BB01-4A05-A32D-87FF29AC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980-A0CC-4C1D-A254-20FAD425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3c2b"/>
            </a:gs>
            <a:gs pos="100000">
              <a:srgbClr val="b37b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- Ορθογώνιο τρίγωνο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bddc3">
                  <a:alpha val="1176"/>
                </a:srgbClr>
              </a:gs>
              <a:gs pos="100000">
                <a:srgbClr val="ebddc3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- Ευθεία γραμμή σύνδεσης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8bcb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- Ευθεία γραμμή σύνδεσης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ec3b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c6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4b6d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4b6d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7c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966B-558E-44A6-8B70-804FF1ADD64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3c2b"/>
            </a:gs>
            <a:gs pos="100000">
              <a:srgbClr val="b37b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- Ορθογώνιο τρίγωνο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bddc3">
                  <a:alpha val="1176"/>
                </a:srgbClr>
              </a:gs>
              <a:gs pos="100000">
                <a:srgbClr val="ebddc3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- Ευθεία γραμμή σύνδεσης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8bcb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- Ευθεία γραμμή σύνδεσης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ec3b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- Ισοσκελές τρίγωνο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a6a84"/>
              </a:gs>
              <a:gs pos="100000">
                <a:srgbClr val="abd0f3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c6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4b6d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4b6d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7c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FE56-34A5-4F48-B90F-CEB8D6ABA64C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3c2b"/>
            </a:gs>
            <a:gs pos="100000">
              <a:srgbClr val="b37b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- Ορθογώνιο τρίγωνο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bddc3">
                  <a:alpha val="1176"/>
                </a:srgbClr>
              </a:gs>
              <a:gs pos="100000">
                <a:srgbClr val="ebddc3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- Ευθεία γραμμή σύνδεσης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8bcb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- Ευθεία γραμμή σύνδεσης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ec3b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c6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4b6d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4b6d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7c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FCDA-F511-46B6-9031-0240E0833AF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- Ορθογώνιο τρίγωνο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bddc3">
                  <a:alpha val="1176"/>
                </a:srgbClr>
              </a:gs>
              <a:gs pos="100000">
                <a:srgbClr val="ebddc3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- Ισοσκελές τρίγωνο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a6a84"/>
              </a:gs>
              <a:gs pos="100000">
                <a:srgbClr val="abd0f3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2 - Ευθεία γραμμή σύνδεσης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ec3b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4 - Ευθεία γραμμή σύνδεσης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8bcb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c6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4b6d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4b6d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7c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9F79-1AE0-4252-A636-0B66F78812F7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3c2b"/>
            </a:gs>
            <a:gs pos="100000">
              <a:srgbClr val="b37b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c6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4b6d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4b6d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7c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B58A-D39B-426E-8164-B8F15EB49F8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3c2b"/>
            </a:gs>
            <a:gs pos="100000">
              <a:srgbClr val="b37b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c6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4b6d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4b6d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7c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309F-CDFA-446E-9F2B-EB10683AA6B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1c6e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1c6e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4b6d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4b6d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4b6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7c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18C0-DACB-4903-905B-5670F3F735AC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4.bp.blogspot.com/_08kDyBSw4e0/SxV2PRxPX-I/AAAAAAAACH0/MOfteyYegxQ/s1600/DSC00242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566640" y="420840"/>
            <a:ext cx="8034480" cy="148104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3" descr=""/>
          <p:cNvPicPr/>
          <p:nvPr/>
        </p:nvPicPr>
        <p:blipFill>
          <a:blip r:embed="rId2"/>
          <a:stretch/>
        </p:blipFill>
        <p:spPr>
          <a:xfrm>
            <a:off x="506520" y="2249640"/>
            <a:ext cx="7704000" cy="25668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971640" y="2565360"/>
            <a:ext cx="74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4 - Εικόνα" descr="IMG_3676.JPG"/>
          <p:cNvPicPr/>
          <p:nvPr/>
        </p:nvPicPr>
        <p:blipFill>
          <a:blip r:embed="rId1"/>
          <a:stretch/>
        </p:blipFill>
        <p:spPr>
          <a:xfrm>
            <a:off x="0" y="88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1 - Τίτλος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33" name="6 - Ορθογώνιο"/>
          <p:cNvSpPr/>
          <p:nvPr/>
        </p:nvSpPr>
        <p:spPr>
          <a:xfrm>
            <a:off x="214200" y="5729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Παρατηρώντας τα εκθέματα του Πάρκου, οι μαθητές συλλέγουν πληροφορίες σχετικά με την εξέλιξη των συνθηκών εργασίας και ασφάλειας μέσα σε ένα μεταλλεί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2 - Εικόνα" descr="IMG_3672.JPG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35" name="1 - Τίτλος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36" name="6 - Ορθογώνιο"/>
          <p:cNvSpPr/>
          <p:nvPr/>
        </p:nvSpPr>
        <p:spPr>
          <a:xfrm>
            <a:off x="857160" y="56577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Οι μαθητές χειρίζονται ακουστικές συσκευές και λαμβάνουν τη πληροφορία που ζητούν για τα εκθέματα του Πάρκο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1 - Τίτλος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5" name="2 - TextBox"/>
          <p:cNvSpPr/>
          <p:nvPr/>
        </p:nvSpPr>
        <p:spPr>
          <a:xfrm>
            <a:off x="285840" y="1571760"/>
            <a:ext cx="442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Ορυχείο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είναι τόπος -επιφανειακός ή εσωτερικός στη Γη- από τον οποίο εξάγονται χρήσιμα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ορυκτά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κυρίως για τη βιομηχανί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Μεταλλείο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είναι ένα ορυχείο  από όπου εξορύσσονται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μέταλλ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Λατομείο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είναι ένα ορυχείο  από όπου εξορύσσονται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οικοδομικά υλικά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3 - Εικόνα" descr="http://4dimlavrio.gr/lavrio/lavrio.files/image012.jpg"/>
          <p:cNvPicPr/>
          <p:nvPr/>
        </p:nvPicPr>
        <p:blipFill>
          <a:blip r:embed="rId2"/>
          <a:stretch/>
        </p:blipFill>
        <p:spPr>
          <a:xfrm>
            <a:off x="4857840" y="1500120"/>
            <a:ext cx="3357360" cy="46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3 - Εικόνα" descr="http://4.bp.blogspot.com/_08kDyBSw4e0/SxV2PRxPX-I/AAAAAAAACH0/MOfteyYegxQ/s320/DSC0024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1643040"/>
            <a:ext cx="4929120" cy="4500720"/>
          </a:xfrm>
          <a:prstGeom prst="rect">
            <a:avLst/>
          </a:prstGeom>
          <a:ln w="0">
            <a:noFill/>
          </a:ln>
        </p:spPr>
      </p:pic>
      <p:pic>
        <p:nvPicPr>
          <p:cNvPr id="308" name="1 - Τίτλος" descr=""/>
          <p:cNvPicPr/>
          <p:nvPr/>
        </p:nvPicPr>
        <p:blipFill>
          <a:blip r:embed="rId3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9" name="5 - TextBox"/>
          <p:cNvSpPr/>
          <p:nvPr/>
        </p:nvSpPr>
        <p:spPr>
          <a:xfrm>
            <a:off x="285840" y="1643040"/>
            <a:ext cx="3571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Από την αρχαιότητα οι άνθρωποι ανέσκαπταν τη γη για την εξόρυξη ιδιαίτερα χρήσιμων υλικώ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Τα αρχαία ορυχεία της Σάμου που βρίσκονται στους Μυτιληνιού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Οι είσοδοι  του Αρχαίου Ορυχείου είναι 45 σπηλιέ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- Τίτλος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912520" cy="1547640"/>
          </a:xfrm>
          <a:prstGeom prst="rect">
            <a:avLst/>
          </a:prstGeom>
          <a:ln w="0">
            <a:noFill/>
          </a:ln>
        </p:spPr>
      </p:pic>
      <p:pic>
        <p:nvPicPr>
          <p:cNvPr id="311" name="2 - Εικόνα" descr="χριστινα65.jpg"/>
          <p:cNvPicPr/>
          <p:nvPr/>
        </p:nvPicPr>
        <p:blipFill>
          <a:blip r:embed="rId2"/>
          <a:stretch/>
        </p:blipFill>
        <p:spPr>
          <a:xfrm>
            <a:off x="0" y="2000160"/>
            <a:ext cx="5238720" cy="3929040"/>
          </a:xfrm>
          <a:prstGeom prst="rect">
            <a:avLst/>
          </a:prstGeom>
          <a:ln w="0">
            <a:noFill/>
          </a:ln>
        </p:spPr>
      </p:pic>
      <p:pic>
        <p:nvPicPr>
          <p:cNvPr id="312" name="3 - Εικόνα" descr="χριστινα71.bmp"/>
          <p:cNvPicPr/>
          <p:nvPr/>
        </p:nvPicPr>
        <p:blipFill>
          <a:blip r:embed="rId3"/>
          <a:stretch/>
        </p:blipFill>
        <p:spPr>
          <a:xfrm>
            <a:off x="3786120" y="2000160"/>
            <a:ext cx="5286600" cy="3929040"/>
          </a:xfrm>
          <a:prstGeom prst="rect">
            <a:avLst/>
          </a:prstGeom>
          <a:ln w="0">
            <a:noFill/>
          </a:ln>
        </p:spPr>
      </p:pic>
      <p:sp>
        <p:nvSpPr>
          <p:cNvPr id="313" name="1 - Τίτλος"/>
          <p:cNvSpPr/>
          <p:nvPr/>
        </p:nvSpPr>
        <p:spPr>
          <a:xfrm>
            <a:off x="0" y="6215040"/>
            <a:ext cx="871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Επίσκεψη των μαθητών του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ου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ΕΠΑΛ Αμαρουσίο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- Τίτλος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8240760" cy="1412640"/>
          </a:xfrm>
          <a:prstGeom prst="rect">
            <a:avLst/>
          </a:prstGeom>
          <a:ln w="0">
            <a:noFill/>
          </a:ln>
        </p:spPr>
      </p:pic>
      <p:sp>
        <p:nvSpPr>
          <p:cNvPr id="315" name="2 - Ορθογώνιο"/>
          <p:cNvSpPr/>
          <p:nvPr/>
        </p:nvSpPr>
        <p:spPr>
          <a:xfrm>
            <a:off x="357120" y="1571760"/>
            <a:ext cx="4286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Στο Vagonettο, το πρώτο και πιό εντυπωσιακό θεματικό πάρκο της χώρας μας, ακολουθούμε τα χνάρια των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μεταλλωρύχων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μέσα στις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υπόγειες στοές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με τα κοιτάσματα του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βωξίτη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σε ένα παλιό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μεταλλείο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στην καρδιά της Γκιώνας τη Στοά 850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2" descr="C:\Users\gram\Desktop\ΠΑΡΝΑΣΣΟΣ 2010\SLIDE SHOW\Vagonetto\IMGP1211.JPG"/>
          <p:cNvPicPr/>
          <p:nvPr/>
        </p:nvPicPr>
        <p:blipFill>
          <a:blip r:embed="rId2"/>
          <a:stretch/>
        </p:blipFill>
        <p:spPr>
          <a:xfrm>
            <a:off x="5143680" y="1643040"/>
            <a:ext cx="358920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 - Τίτλος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18" name="3 - Εικόνα" descr="IMGP1251.JPG"/>
          <p:cNvPicPr/>
          <p:nvPr/>
        </p:nvPicPr>
        <p:blipFill>
          <a:blip r:embed="rId2"/>
          <a:stretch/>
        </p:blipFill>
        <p:spPr>
          <a:xfrm>
            <a:off x="642960" y="3287880"/>
            <a:ext cx="3952800" cy="2963520"/>
          </a:xfrm>
          <a:prstGeom prst="rect">
            <a:avLst/>
          </a:prstGeom>
          <a:ln w="0">
            <a:noFill/>
          </a:ln>
        </p:spPr>
      </p:pic>
      <p:sp>
        <p:nvSpPr>
          <p:cNvPr id="319" name="4 - Ορθογώνιο"/>
          <p:cNvSpPr/>
          <p:nvPr/>
        </p:nvSpPr>
        <p:spPr>
          <a:xfrm>
            <a:off x="428760" y="1571760"/>
            <a:ext cx="76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Η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εξόρυξη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του μεταλλεύματος πραγματοποιείται αρχικά με το σύστημα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«τσάπα - κόφα - βαγόνι»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!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C:\Users\gram\Desktop\ΠΑΡΝΑΣΣΟΣ 2010\SLIDE SHOW\Vagonetto\χριστινα63.jpg"/>
          <p:cNvPicPr/>
          <p:nvPr/>
        </p:nvPicPr>
        <p:blipFill>
          <a:blip r:embed="rId3"/>
          <a:stretch/>
        </p:blipFill>
        <p:spPr>
          <a:xfrm>
            <a:off x="4856040" y="3286080"/>
            <a:ext cx="3930840" cy="29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1 - Τίτλος" descr=""/>
          <p:cNvPicPr/>
          <p:nvPr/>
        </p:nvPicPr>
        <p:blipFill>
          <a:blip r:embed="rId1"/>
          <a:stretch/>
        </p:blipFill>
        <p:spPr>
          <a:xfrm>
            <a:off x="-219240" y="262080"/>
            <a:ext cx="9528480" cy="1407960"/>
          </a:xfrm>
          <a:prstGeom prst="rect">
            <a:avLst/>
          </a:prstGeom>
          <a:ln w="0">
            <a:noFill/>
          </a:ln>
        </p:spPr>
      </p:pic>
      <p:sp>
        <p:nvSpPr>
          <p:cNvPr id="322" name="2 - Ορθογώνιο"/>
          <p:cNvSpPr/>
          <p:nvPr/>
        </p:nvSpPr>
        <p:spPr>
          <a:xfrm>
            <a:off x="500040" y="150012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Παρατηρώντας τα εκθέματα του Πάρκου, οι μαθητές συλλέγουν πληροφορίες σχετικά με την εξέλιξη των συνθηκών εργασίας και ασφάλειας μέσα σε ένα μεταλλεί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3 - Εικόνα" descr="IMGP1242.JPG"/>
          <p:cNvPicPr/>
          <p:nvPr/>
        </p:nvPicPr>
        <p:blipFill>
          <a:blip r:embed="rId2"/>
          <a:stretch/>
        </p:blipFill>
        <p:spPr>
          <a:xfrm>
            <a:off x="2500200" y="3322800"/>
            <a:ext cx="4429080" cy="33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1 - Τίτλος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25" name="2 - Εικόνα" descr="IMG_3665.JPG"/>
          <p:cNvPicPr/>
          <p:nvPr/>
        </p:nvPicPr>
        <p:blipFill>
          <a:blip r:embed="rId2"/>
          <a:stretch/>
        </p:blipFill>
        <p:spPr>
          <a:xfrm>
            <a:off x="571680" y="335772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326" name="3 - Εικόνα" descr="IMG_3666.JPG"/>
          <p:cNvPicPr/>
          <p:nvPr/>
        </p:nvPicPr>
        <p:blipFill>
          <a:blip r:embed="rId3"/>
          <a:stretch/>
        </p:blipFill>
        <p:spPr>
          <a:xfrm>
            <a:off x="4714920" y="3357720"/>
            <a:ext cx="4000320" cy="3000240"/>
          </a:xfrm>
          <a:prstGeom prst="rect">
            <a:avLst/>
          </a:prstGeom>
          <a:ln w="0">
            <a:noFill/>
          </a:ln>
        </p:spPr>
      </p:pic>
      <p:sp>
        <p:nvSpPr>
          <p:cNvPr id="327" name="5 - Ορθογώνιο"/>
          <p:cNvSpPr/>
          <p:nvPr/>
        </p:nvSpPr>
        <p:spPr>
          <a:xfrm>
            <a:off x="428760" y="1571760"/>
            <a:ext cx="871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Η εξόρυξη γίνεται με την τσάπα και μεταφέρεται στα βαγόνια με την κόφα, ενώ η διακίνηση του βωξίτη γίνεται με χειροκίνητα ανατρεπόμενα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βαγόνια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, τους προπολεμικούς προγόνους του σημερινού Vagonet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3 - Εικόνα" descr="IMG_36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1 - Τίτλος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0" name="2 - Ορθογώνιο"/>
          <p:cNvSpPr/>
          <p:nvPr/>
        </p:nvSpPr>
        <p:spPr>
          <a:xfrm>
            <a:off x="214200" y="5657760"/>
            <a:ext cx="8929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Μέσα από ένα παιχνίδι ρόλων και φορώντας τα κράνη και τις στολές των μεταλλωρύχων οι μαθητές ανακαλύπτουν στοιχεία για τον τρόπο εργασίας σε μια Στοά εξόρυξης βωξίτη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8:14:10Z</dcterms:created>
  <dc:creator>gram</dc:creator>
  <dc:description/>
  <dc:language>en-US</dc:language>
  <cp:lastModifiedBy>gram</cp:lastModifiedBy>
  <dcterms:modified xsi:type="dcterms:W3CDTF">2010-05-16T13:24:46Z</dcterms:modified>
  <cp:revision>9</cp:revision>
  <dc:subject/>
  <dc:title>Ορυχεία</dc:title>
</cp:coreProperties>
</file>